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gif" ContentType="image/gif"/>
  <Override PartName="/ppt/media/image7.png" ContentType="image/png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6D95-1CD3-4B38-BDDA-E0D3CD988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28BE-7BDE-4A3A-ACD9-AF788E059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BECD-A813-4A70-A440-8F8981C4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5048-01D3-41D9-B816-BAF38C7D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C554-0D05-4E01-B0B1-DB12FF6F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A5B2-EF3B-4B42-B016-F107880B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745A-6692-40F1-8D7C-463C5F4C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B03C-A859-4883-B8C9-1D5319D1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313C-3A9E-4066-8ADD-BD993F6A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5700-AA87-47D9-8AE2-45FBA585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2A35-8F2E-4D1D-8487-66FC0E57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0B88-80BE-4767-81D1-36DFA5D5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D631-11AC-4E37-B294-E5C590D0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5802-0E09-4EAC-B285-DDC7D858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85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7531-4208-4718-AFEF-3E7669630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 rot="93600">
            <a:off x="517680" y="546120"/>
            <a:ext cx="793908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2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184000"/>
                </a:gradFill>
                <a:latin typeface="Comic Sans MS"/>
              </a:rPr>
              <a:t>Writing, naming , and counting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184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184000"/>
                </a:gradFill>
                <a:latin typeface="Comic Sans MS"/>
              </a:rPr>
              <a:t>Chemical equation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184000"/>
              </a:gradFill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1295280" y="1689120"/>
            <a:ext cx="5029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 + O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  +  Br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 +  S 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e  + O 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  +  Cl 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2940480" y="1716120"/>
            <a:ext cx="26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thium ox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2989080" y="2630520"/>
            <a:ext cx="38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luminum brom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986560" y="3657600"/>
            <a:ext cx="26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ickel sulf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057120" y="4611600"/>
            <a:ext cx="20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ron ox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2990160" y="5602320"/>
            <a:ext cx="380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tassium chlor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11"/>
          <p:cNvSpPr/>
          <p:nvPr/>
        </p:nvSpPr>
        <p:spPr>
          <a:xfrm rot="20745000">
            <a:off x="-130320" y="693720"/>
            <a:ext cx="5312160" cy="5508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54061"/>
                </a:solidFill>
                <a:latin typeface="Comic Sans MS"/>
              </a:rPr>
              <a:t>Writing Binary Compo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19" descr="http://xo.typepad.com/blog/images/beaker.jpg"/>
          <p:cNvPicPr/>
          <p:nvPr/>
        </p:nvPicPr>
        <p:blipFill>
          <a:blip r:embed="rId1"/>
          <a:stretch/>
        </p:blipFill>
        <p:spPr>
          <a:xfrm>
            <a:off x="6705720" y="2403360"/>
            <a:ext cx="2184120" cy="2930760"/>
          </a:xfrm>
          <a:prstGeom prst="rect">
            <a:avLst/>
          </a:prstGeom>
          <a:ln w="0">
            <a:noFill/>
          </a:ln>
        </p:spPr>
      </p:pic>
      <p:sp>
        <p:nvSpPr>
          <p:cNvPr id="133" name="Oval Callout 13"/>
          <p:cNvSpPr/>
          <p:nvPr/>
        </p:nvSpPr>
        <p:spPr>
          <a:xfrm>
            <a:off x="5715000" y="457200"/>
            <a:ext cx="3048120" cy="1523880"/>
          </a:xfrm>
          <a:prstGeom prst="wedgeEllipseCallout">
            <a:avLst>
              <a:gd name="adj1" fmla="val 5833"/>
              <a:gd name="adj2" fmla="val 1109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ou try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The basics of naming compounds"/>
          <p:cNvPicPr/>
          <p:nvPr/>
        </p:nvPicPr>
        <p:blipFill>
          <a:blip r:embed="rId1"/>
          <a:stretch/>
        </p:blipFill>
        <p:spPr>
          <a:xfrm>
            <a:off x="7632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1"/>
          <p:cNvSpPr/>
          <p:nvPr/>
        </p:nvSpPr>
        <p:spPr>
          <a:xfrm>
            <a:off x="687960" y="133200"/>
            <a:ext cx="7741440" cy="550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Advanced Naming: Chart using chlor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09480" y="3392640"/>
            <a:ext cx="5029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1) Carbon + (1) Oxygen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(1) Carbon + (2) Oxygen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(1) Carbon + (4) Chlorin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1342440" y="230040"/>
            <a:ext cx="5740200" cy="5508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54061"/>
                </a:solidFill>
                <a:latin typeface="Comic Sans MS"/>
              </a:rPr>
              <a:t>Advanced Naming Continu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5114520" y="3392640"/>
            <a:ext cx="35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Carbon monox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5150160" y="4840200"/>
            <a:ext cx="30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Carbon diox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5117400" y="6288120"/>
            <a:ext cx="413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Carbon tetrachlor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15" descr="http://eia.egreen.wednet.edu/graphics/beaker.jpg"/>
          <p:cNvPicPr/>
          <p:nvPr/>
        </p:nvPicPr>
        <p:blipFill>
          <a:blip r:embed="rId1"/>
          <a:stretch/>
        </p:blipFill>
        <p:spPr>
          <a:xfrm>
            <a:off x="1981080" y="846000"/>
            <a:ext cx="1943280" cy="2583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ular Callout 8"/>
          <p:cNvSpPr/>
          <p:nvPr/>
        </p:nvSpPr>
        <p:spPr>
          <a:xfrm>
            <a:off x="4419720" y="1066680"/>
            <a:ext cx="3504960" cy="1600200"/>
          </a:xfrm>
          <a:prstGeom prst="wedgeRectCallout">
            <a:avLst>
              <a:gd name="adj1" fmla="val -85013"/>
              <a:gd name="adj2" fmla="val 497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omic Sans MS"/>
              </a:rPr>
              <a:t>You try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981080" y="76320"/>
            <a:ext cx="5791320" cy="55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What is a chemical reacti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52280" y="1066680"/>
            <a:ext cx="5486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504d"/>
                </a:solidFill>
                <a:latin typeface="Comic Sans MS"/>
              </a:rPr>
              <a:t>chemical reaction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657600" y="762120"/>
            <a:ext cx="5410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504d"/>
                </a:solidFill>
                <a:latin typeface="Comic Sans MS"/>
              </a:rPr>
              <a:t>when one or more substances </a:t>
            </a:r>
            <a:r>
              <a:rPr b="0" i="1" lang="en-US" sz="3000" spc="-1" strike="noStrike" u="sng">
                <a:solidFill>
                  <a:srgbClr val="c0504d"/>
                </a:solidFill>
                <a:uFillTx/>
                <a:latin typeface="Comic Sans MS"/>
              </a:rPr>
              <a:t>changes</a:t>
            </a:r>
            <a:r>
              <a:rPr b="0" lang="en-US" sz="3000" spc="-1" strike="noStrike">
                <a:solidFill>
                  <a:srgbClr val="c0504d"/>
                </a:solidFill>
                <a:latin typeface="Comic Sans MS"/>
              </a:rPr>
              <a:t> into one or more </a:t>
            </a:r>
            <a:r>
              <a:rPr b="0" i="1" lang="en-US" sz="3000" spc="-1" strike="noStrike" u="sng">
                <a:solidFill>
                  <a:srgbClr val="c0504d"/>
                </a:solidFill>
                <a:uFillTx/>
                <a:latin typeface="Comic Sans MS"/>
              </a:rPr>
              <a:t>new</a:t>
            </a:r>
            <a:r>
              <a:rPr b="0" lang="en-US" sz="3000" spc="-1" strike="noStrike">
                <a:solidFill>
                  <a:srgbClr val="c0504d"/>
                </a:solidFill>
                <a:latin typeface="Comic Sans MS"/>
              </a:rPr>
              <a:t> substa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76320" y="2651040"/>
            <a:ext cx="8762760" cy="100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wo important key terms in a chemical react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76320" y="3718080"/>
            <a:ext cx="5486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Comic Sans MS"/>
              </a:rPr>
              <a:t>1) reactants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4800600"/>
            <a:ext cx="5486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Comic Sans MS"/>
              </a:rPr>
              <a:t>2) products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743200" y="3581280"/>
            <a:ext cx="4648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Comic Sans MS"/>
              </a:rPr>
              <a:t>the substance(s) that undergo chan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743200" y="4876920"/>
            <a:ext cx="4648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Comic Sans MS"/>
              </a:rPr>
              <a:t>the new substance(s) that are form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1302480" y="6079320"/>
            <a:ext cx="6540480" cy="550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Reactant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Reactant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----&gt; </a:t>
            </a: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Product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Reactants and products combine"/>
          <p:cNvPicPr/>
          <p:nvPr/>
        </p:nvPicPr>
        <p:blipFill>
          <a:blip r:embed="rId1"/>
          <a:stretch/>
        </p:blipFill>
        <p:spPr>
          <a:xfrm>
            <a:off x="6781680" y="3429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914400" y="55440"/>
            <a:ext cx="7467480" cy="55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Writing/reading Chemical Equ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6320" y="609480"/>
            <a:ext cx="8991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omic Sans MS"/>
              </a:rPr>
              <a:t>Chemists use chemical equations describe what reactions are taking place by writing an equ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685800" y="1676520"/>
            <a:ext cx="8991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Word equations are a simple list of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143000" y="2193840"/>
            <a:ext cx="358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00"/>
                </a:solidFill>
                <a:latin typeface="Comic Sans MS"/>
              </a:rPr>
              <a:t>1) reactant(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419720" y="2178000"/>
            <a:ext cx="3352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00"/>
                </a:solidFill>
                <a:latin typeface="Comic Sans MS"/>
              </a:rPr>
              <a:t>2) product(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0" y="2895480"/>
            <a:ext cx="4952880" cy="55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Rules of word equa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0" y="4572000"/>
            <a:ext cx="8991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00"/>
                </a:solidFill>
                <a:latin typeface="Comic Sans MS"/>
              </a:rPr>
              <a:t>2) reactant(s) are always to the LEFT</a:t>
            </a:r>
            <a:r>
              <a:rPr b="0" lang="en-US" sz="3000" spc="-1" strike="noStrike">
                <a:solidFill>
                  <a:srgbClr val="66990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0" y="5241960"/>
            <a:ext cx="8991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cc"/>
                </a:solidFill>
                <a:latin typeface="Comic Sans MS"/>
              </a:rPr>
              <a:t>3) product(s) are always to the RIGH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0" y="350532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cc"/>
                </a:solidFill>
                <a:latin typeface="Comic Sans MS"/>
              </a:rPr>
              <a:t>1) the reactants &amp; products are separated by and arrow (means “yields”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0" y="5638680"/>
            <a:ext cx="891540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00"/>
                </a:solidFill>
                <a:latin typeface="Comic Sans MS"/>
              </a:rPr>
              <a:t>4) Use a </a:t>
            </a:r>
            <a:r>
              <a:rPr b="1" lang="en-US" sz="4400" spc="-1" strike="noStrike">
                <a:solidFill>
                  <a:srgbClr val="669900"/>
                </a:solidFill>
                <a:latin typeface="Comic Sans MS"/>
              </a:rPr>
              <a:t>+</a:t>
            </a:r>
            <a:r>
              <a:rPr b="0" lang="en-US" sz="3000" spc="-1" strike="noStrike">
                <a:solidFill>
                  <a:srgbClr val="669900"/>
                </a:solidFill>
                <a:latin typeface="Comic Sans MS"/>
              </a:rPr>
              <a:t> sign if there are more than one reactant or produ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www.griffith.edu.au/school/msc/chemistry-help-desk/figures/bun.gif"/>
          <p:cNvPicPr/>
          <p:nvPr/>
        </p:nvPicPr>
        <p:blipFill>
          <a:blip r:embed="rId1"/>
          <a:stretch/>
        </p:blipFill>
        <p:spPr>
          <a:xfrm>
            <a:off x="7848720" y="4343400"/>
            <a:ext cx="952560" cy="16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ectangle 12" descr=""/>
          <p:cNvPicPr/>
          <p:nvPr/>
        </p:nvPicPr>
        <p:blipFill>
          <a:blip r:embed="rId1"/>
          <a:stretch/>
        </p:blipFill>
        <p:spPr>
          <a:xfrm>
            <a:off x="-755640" y="-23760"/>
            <a:ext cx="8094600" cy="37242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1"/>
          <p:cNvSpPr/>
          <p:nvPr/>
        </p:nvSpPr>
        <p:spPr>
          <a:xfrm>
            <a:off x="5941440" y="1766880"/>
            <a:ext cx="2204640" cy="550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coeffici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752480" y="3809880"/>
            <a:ext cx="5715000" cy="9565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+ O</a:t>
            </a:r>
            <a:r>
              <a:rPr b="1" lang="en-US" sz="48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2H</a:t>
            </a:r>
            <a:r>
              <a:rPr b="1" lang="en-US" sz="48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O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3372120" y="6271920"/>
            <a:ext cx="1942560" cy="550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subscri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2332800" y="2726640"/>
            <a:ext cx="1095120" cy="550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yie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45"/>
          <p:cNvSpPr/>
          <p:nvPr/>
        </p:nvSpPr>
        <p:spPr>
          <a:xfrm rot="7017000">
            <a:off x="5010840" y="2953440"/>
            <a:ext cx="1963800" cy="479520"/>
          </a:xfrm>
          <a:custGeom>
            <a:avLst/>
            <a:gdLst>
              <a:gd name="textAreaLeft" fmla="*/ 306720 w 1963800"/>
              <a:gd name="textAreaRight" fmla="*/ 1718640 w 1963800"/>
              <a:gd name="textAreaTop" fmla="*/ 119880 h 479520"/>
              <a:gd name="textAreaBottom" fmla="*/ 359640 h 479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45"/>
          <p:cNvSpPr/>
          <p:nvPr/>
        </p:nvSpPr>
        <p:spPr>
          <a:xfrm rot="2616600">
            <a:off x="3085920" y="3363480"/>
            <a:ext cx="1923840" cy="436680"/>
          </a:xfrm>
          <a:custGeom>
            <a:avLst/>
            <a:gdLst>
              <a:gd name="textAreaLeft" fmla="*/ 300600 w 1923840"/>
              <a:gd name="textAreaRight" fmla="*/ 1683360 w 1923840"/>
              <a:gd name="textAreaTop" fmla="*/ 109080 h 436680"/>
              <a:gd name="textAreaBottom" fmla="*/ 327600 h 43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45"/>
          <p:cNvSpPr/>
          <p:nvPr/>
        </p:nvSpPr>
        <p:spPr>
          <a:xfrm rot="14503800">
            <a:off x="2528640" y="5339520"/>
            <a:ext cx="1625400" cy="381240"/>
          </a:xfrm>
          <a:custGeom>
            <a:avLst/>
            <a:gdLst>
              <a:gd name="textAreaLeft" fmla="*/ 253800 w 1625400"/>
              <a:gd name="textAreaRight" fmla="*/ 1422360 w 16254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45"/>
          <p:cNvSpPr/>
          <p:nvPr/>
        </p:nvSpPr>
        <p:spPr>
          <a:xfrm rot="16200000">
            <a:off x="3505680" y="5334120"/>
            <a:ext cx="1600200" cy="37944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94680 h 379440"/>
              <a:gd name="textAreaBottom" fmla="*/ 284760 h 379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45"/>
          <p:cNvSpPr/>
          <p:nvPr/>
        </p:nvSpPr>
        <p:spPr>
          <a:xfrm rot="18435600">
            <a:off x="4710600" y="5334840"/>
            <a:ext cx="1906560" cy="365040"/>
          </a:xfrm>
          <a:custGeom>
            <a:avLst/>
            <a:gdLst>
              <a:gd name="textAreaLeft" fmla="*/ 297720 w 1906560"/>
              <a:gd name="textAreaRight" fmla="*/ 1668240 w 1906560"/>
              <a:gd name="textAreaTop" fmla="*/ 91080 h 365040"/>
              <a:gd name="textAreaBottom" fmla="*/ 273960 h 365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21.gif"/>
          <p:cNvPicPr/>
          <p:nvPr/>
        </p:nvPicPr>
        <p:blipFill>
          <a:blip r:embed="rId2"/>
          <a:stretch/>
        </p:blipFill>
        <p:spPr>
          <a:xfrm>
            <a:off x="609480" y="457200"/>
            <a:ext cx="1190880" cy="6667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1"/>
          <p:cNvSpPr/>
          <p:nvPr/>
        </p:nvSpPr>
        <p:spPr>
          <a:xfrm>
            <a:off x="6462360" y="5136840"/>
            <a:ext cx="1860120" cy="550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Multipl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Rectangle 12" descr=""/>
          <p:cNvPicPr/>
          <p:nvPr/>
        </p:nvPicPr>
        <p:blipFill>
          <a:blip r:embed="rId1"/>
          <a:stretch/>
        </p:blipFill>
        <p:spPr>
          <a:xfrm>
            <a:off x="-853920" y="-115920"/>
            <a:ext cx="6499080" cy="38959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1"/>
          <p:cNvSpPr/>
          <p:nvPr/>
        </p:nvSpPr>
        <p:spPr>
          <a:xfrm>
            <a:off x="500040" y="4663440"/>
            <a:ext cx="7982280" cy="7873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Think of saying that there are TWO H</a:t>
            </a:r>
            <a:r>
              <a:rPr b="1" lang="en-US" sz="4000" spc="-1" strike="noStrike" baseline="-25000">
                <a:solidFill>
                  <a:srgbClr val="008000"/>
                </a:solidFill>
                <a:latin typeface="Comic Sans MS"/>
              </a:rPr>
              <a:t>2</a:t>
            </a: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O’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828800" y="2743200"/>
            <a:ext cx="5715000" cy="9565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+ O</a:t>
            </a:r>
            <a:r>
              <a:rPr b="1" lang="en-US" sz="48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2H</a:t>
            </a:r>
            <a:r>
              <a:rPr b="1" lang="en-US" sz="48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O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1"/>
          <p:cNvSpPr/>
          <p:nvPr/>
        </p:nvSpPr>
        <p:spPr>
          <a:xfrm rot="19503000">
            <a:off x="2287080" y="1223640"/>
            <a:ext cx="4115520" cy="550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Subscript TELLS 2 H’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21.gif"/>
          <p:cNvPicPr/>
          <p:nvPr/>
        </p:nvPicPr>
        <p:blipFill>
          <a:blip r:embed="rId2"/>
          <a:stretch/>
        </p:blipFill>
        <p:spPr>
          <a:xfrm rot="19315800">
            <a:off x="706320" y="735120"/>
            <a:ext cx="1190880" cy="666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1"/>
          <p:cNvSpPr/>
          <p:nvPr/>
        </p:nvSpPr>
        <p:spPr>
          <a:xfrm>
            <a:off x="2363760" y="3811320"/>
            <a:ext cx="4494240" cy="550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Coefficient x subscrip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1"/>
          <p:cNvSpPr/>
          <p:nvPr/>
        </p:nvSpPr>
        <p:spPr>
          <a:xfrm rot="19491600">
            <a:off x="3873600" y="1304280"/>
            <a:ext cx="4127760" cy="550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Subscript TELLS 2 O’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144520" y="5369760"/>
            <a:ext cx="4562280" cy="7873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TWO H</a:t>
            </a:r>
            <a:r>
              <a:rPr b="1" lang="en-US" sz="4000" spc="-1" strike="noStrike" baseline="-25000">
                <a:solidFill>
                  <a:srgbClr val="008000"/>
                </a:solidFill>
                <a:latin typeface="Comic Sans MS"/>
              </a:rPr>
              <a:t>2</a:t>
            </a: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O’s = H</a:t>
            </a:r>
            <a:r>
              <a:rPr b="1" lang="en-US" sz="4000" spc="-1" strike="noStrike" baseline="-25000">
                <a:solidFill>
                  <a:srgbClr val="008000"/>
                </a:solidFill>
                <a:latin typeface="Comic Sans MS"/>
              </a:rPr>
              <a:t>2</a:t>
            </a: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O + H</a:t>
            </a:r>
            <a:r>
              <a:rPr b="1" lang="en-US" sz="4000" spc="-1" strike="noStrike" baseline="-25000">
                <a:solidFill>
                  <a:srgbClr val="008000"/>
                </a:solidFill>
                <a:latin typeface="Comic Sans MS"/>
              </a:rPr>
              <a:t>2</a:t>
            </a: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492200" y="6153120"/>
            <a:ext cx="6230880" cy="5508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Adding this way= 4 H’s and 2 O’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ircular Arrow 27"/>
          <p:cNvSpPr/>
          <p:nvPr/>
        </p:nvSpPr>
        <p:spPr>
          <a:xfrm rot="5400000">
            <a:off x="6362280" y="2819520"/>
            <a:ext cx="1295640" cy="1523880"/>
          </a:xfrm>
          <a:custGeom>
            <a:avLst/>
            <a:gdLst>
              <a:gd name="textAreaLeft" fmla="*/ 246960 w 1295640"/>
              <a:gd name="textAreaRight" fmla="*/ 1048680 w 1295640"/>
              <a:gd name="textAreaTop" fmla="*/ 280440 h 1523880"/>
              <a:gd name="textAreaBottom" fmla="*/ 1243440 h 1523880"/>
            </a:gdLst>
            <a:ahLst/>
            <a:rect l="textAreaLeft" t="textAreaTop" r="textAreaRight" b="textAreaBottom"/>
            <a:pathLst>
              <a:path w="1295400" h="1524000">
                <a:moveTo>
                  <a:pt x="80963" y="761999"/>
                </a:moveTo>
                <a:lnTo>
                  <a:pt x="80963" y="761999"/>
                </a:lnTo>
                <a:arcTo wR="566738" hR="681038" stAng="-10799994" swAng="9819422"/>
                <a:lnTo>
                  <a:pt x="1277488" y="600550"/>
                </a:lnTo>
                <a:lnTo>
                  <a:pt x="1133475" y="762001"/>
                </a:lnTo>
                <a:lnTo>
                  <a:pt x="953638" y="600550"/>
                </a:lnTo>
                <a:lnTo>
                  <a:pt x="1032436" y="600550"/>
                </a:lnTo>
                <a:lnTo>
                  <a:pt x="1032436" y="600550"/>
                </a:lnTo>
                <a:arcTo wR="404813" hR="519113" stAng="-1365884" swAng="-943410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0"/>
          <p:cNvSpPr/>
          <p:nvPr/>
        </p:nvSpPr>
        <p:spPr>
          <a:xfrm>
            <a:off x="0" y="274320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0253f"/>
                </a:solidFill>
                <a:latin typeface="Comic Sans MS"/>
              </a:rPr>
              <a:t>1) What number represents the coefficie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0" y="365760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0253f"/>
                </a:solidFill>
                <a:latin typeface="Comic Sans MS"/>
              </a:rPr>
              <a:t>2) What number represents the subscrip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0" y="5486400"/>
            <a:ext cx="92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253f"/>
                </a:solidFill>
                <a:latin typeface="Comic Sans MS"/>
              </a:rPr>
              <a:t>4) What element is represented by the letter 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457200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0253f"/>
                </a:solidFill>
                <a:latin typeface="Comic Sans MS"/>
              </a:rPr>
              <a:t>3) How many “H’s”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8381880" y="265896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7924680" y="357336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048120" y="585936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095880" y="449568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5x2=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6095880" y="1447920"/>
            <a:ext cx="14479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5H</a:t>
            </a:r>
            <a:r>
              <a:rPr b="1" lang="en-US" sz="5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Rectangle 13" descr=""/>
          <p:cNvPicPr/>
          <p:nvPr/>
        </p:nvPicPr>
        <p:blipFill>
          <a:blip r:embed="rId1"/>
          <a:stretch/>
        </p:blipFill>
        <p:spPr>
          <a:xfrm>
            <a:off x="-1231920" y="-122400"/>
            <a:ext cx="8852040" cy="25416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0"/>
          <p:cNvSpPr/>
          <p:nvPr/>
        </p:nvSpPr>
        <p:spPr>
          <a:xfrm>
            <a:off x="152280" y="167652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0253f"/>
                </a:solidFill>
                <a:latin typeface="Comic Sans MS"/>
              </a:rPr>
              <a:t>Answer a few questions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380880" y="92376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simple compounds only have 2words in their n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example of simple compound naming"/>
          <p:cNvPicPr/>
          <p:nvPr/>
        </p:nvPicPr>
        <p:blipFill>
          <a:blip r:embed="rId1"/>
          <a:stretch/>
        </p:blipFill>
        <p:spPr>
          <a:xfrm>
            <a:off x="228600" y="2819520"/>
            <a:ext cx="3962520" cy="2971800"/>
          </a:xfrm>
          <a:prstGeom prst="rect">
            <a:avLst/>
          </a:prstGeom>
          <a:ln w="38160">
            <a:solidFill>
              <a:srgbClr val="385d8a"/>
            </a:solidFill>
            <a:miter/>
          </a:ln>
        </p:spPr>
      </p:pic>
      <p:sp>
        <p:nvSpPr>
          <p:cNvPr id="106" name="Rectangle 11"/>
          <p:cNvSpPr/>
          <p:nvPr/>
        </p:nvSpPr>
        <p:spPr>
          <a:xfrm>
            <a:off x="1502280" y="133200"/>
            <a:ext cx="5368320" cy="550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Naming Chemical formul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4343400" y="206676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ules for simple compound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4495680" y="2895480"/>
            <a:ext cx="472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Write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lemen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original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4495680" y="44067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Write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lemen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original name BUT chang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the suffix to “id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609480" y="2819520"/>
            <a:ext cx="5029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bon + hydrogen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dium + chlorine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uminum +  oxygen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1540800" y="306360"/>
            <a:ext cx="5401800" cy="5508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54061"/>
                </a:solidFill>
                <a:latin typeface="Comic Sans MS"/>
              </a:rPr>
              <a:t>Naming Binary Compo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956840" y="2819520"/>
            <a:ext cx="35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rbon hydrox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4970520" y="4267080"/>
            <a:ext cx="323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odium chlor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5194800" y="5715000"/>
            <a:ext cx="33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luminium ox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6" descr="4.gif"/>
          <p:cNvPicPr/>
          <p:nvPr/>
        </p:nvPicPr>
        <p:blipFill>
          <a:blip r:embed="rId1"/>
          <a:stretch/>
        </p:blipFill>
        <p:spPr>
          <a:xfrm>
            <a:off x="3251160" y="1143000"/>
            <a:ext cx="193032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0" y="1143000"/>
            <a:ext cx="50292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thium+ oxygen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ryllium+ nitrogen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tassium +  sulfur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uminum +  chlorine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thium +  sulfur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gnesium +  sulfur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6206400" y="155160"/>
            <a:ext cx="2681640" cy="7642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omic Sans MS"/>
              </a:rPr>
              <a:t>You try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286800" y="1066680"/>
            <a:ext cx="26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thium ox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3756600" y="2057400"/>
            <a:ext cx="33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eryllium nitr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3668760" y="304812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tassium sulf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933000" y="4002120"/>
            <a:ext cx="376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luminum chlor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3298680" y="4992840"/>
            <a:ext cx="29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thium sulf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3921120" y="5983200"/>
            <a:ext cx="37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gnesium sulf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245520" y="306360"/>
            <a:ext cx="5401800" cy="5508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54061"/>
                </a:solidFill>
                <a:latin typeface="Comic Sans MS"/>
              </a:rPr>
              <a:t>Naming Binary Compo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21:43:32Z</dcterms:created>
  <dc:creator>Laurie</dc:creator>
  <dc:description/>
  <dc:language>en-US</dc:language>
  <cp:lastModifiedBy>Laurie</cp:lastModifiedBy>
  <dcterms:modified xsi:type="dcterms:W3CDTF">2009-06-29T21:47:35Z</dcterms:modified>
  <cp:revision>2</cp:revision>
  <dc:subject/>
  <dc:title>Slide 1</dc:title>
</cp:coreProperties>
</file>